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gif" ContentType="image/gif"/>
  <Override PartName="/ppt/media/image6.wmf" ContentType="image/x-wmf"/>
  <Override PartName="/ppt/media/image7.png" ContentType="image/png"/>
  <Override PartName="/ppt/media/image12.png" ContentType="image/png"/>
  <Override PartName="/ppt/media/image4.gif" ContentType="image/gif"/>
  <Override PartName="/ppt/media/image8.png" ContentType="image/png"/>
  <Override PartName="/ppt/media/image5.gif" ContentType="image/gif"/>
  <Override PartName="/ppt/media/image9.png" ContentType="image/png"/>
  <Override PartName="/ppt/media/image10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81D63-1A21-4D9C-8579-5099F4D21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9B9C6-810C-45E1-8E4F-FD9110BA2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7127B-7B5C-422F-B5D8-8026AF618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323B2-DD2A-48B1-BE39-2FB6DD7D4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C8D39-ADA0-4C10-9350-E2977CB5E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97968-C8E1-4802-AB18-9F588D6AE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207DA-1C06-448C-AA62-FFB853575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0254F-A24A-4C0A-A069-7562698DC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46C39-9D41-4944-9EB0-F01A8D85D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62C3E-0D71-497F-A0EF-26CE64F97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1EB49-6546-4789-BA64-9DEF2EE89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641CC-53F2-4D93-AD81-592424ED4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A926E-B73D-4486-8128-C2ABD7C93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7D8BA-29BE-46B1-AC0B-6FCB94B1D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B9E3A-6D9D-4CF4-B715-7F6868FC6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217B8-8697-40EA-AF50-7DCE676FF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29843-4FAC-4897-9BC2-0C0703949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F7356-D19A-4DF5-8F18-50D9564F6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FA763-F67F-4D4B-976A-6704D22D6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E672A-8DFF-43BA-80AA-0FB10BF28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B0644-395D-40D0-AD02-54BF91158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8048B-A78C-4599-8C3C-35B3C92CC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8F912-036E-4F89-945B-E2D343865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0E3F4-609C-44E2-8A7F-5C99C2096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" descr="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6A52D-6B97-4FF1-8495-62734B2ACD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A46CF-47D9-4B8A-A5DE-B5936083E2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gif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Introduction to Microsoft Word</a:t>
            </a:r>
            <a:br>
              <a:rPr sz="4400"/>
            </a:b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and Word Processing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3581280" y="3428640"/>
            <a:ext cx="28958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d-Deadwood Middle Scho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3048120" y="457200"/>
            <a:ext cx="3317760" cy="13050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1828800" y="44956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6477120" y="4343400"/>
            <a:ext cx="1866960" cy="18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Header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62012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special area at the top of the page.  It extends across the entire pag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From Menu bar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 choose View, then Header and Foote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rcRect l="0" t="9967" r="0" b="58882"/>
          <a:stretch/>
        </p:blipFill>
        <p:spPr>
          <a:xfrm>
            <a:off x="762120" y="4495680"/>
            <a:ext cx="8153280" cy="1905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752480" y="5105520"/>
            <a:ext cx="6324840" cy="6094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143000" y="5715000"/>
            <a:ext cx="7391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Basic Terms (continued)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od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in part of the document.  It may have unlimited pag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sertion Point - (Cursor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, blinking vertical bar.  Use the mouse to place (click) the insertion point to add tex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ormatting Characters -- ¶ 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ows where returns, tabs, and spaces are in your docum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On the Standard Toolbar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lic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Show/Hide butt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5" dur="indefinite" restart="never" nodeType="tmRoot">
          <p:childTnLst>
            <p:seq>
              <p:cTn id="566" dur="indefinite" nodeType="mainSeq">
                <p:childTnLst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Spell Check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06668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s words that ar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the Microsoft Word dictiona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will suggest spellings.  You can choose to ignore or replace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rom the Menu Bar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Choose Tools, Spelling and Gramm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~OR~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on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B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tton on the Standard Toolb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words underlined in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R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Not in Dictionary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words/sentences underlined in </a:t>
            </a:r>
            <a:r>
              <a:rPr b="0" lang="en-US" sz="2800" spc="-1" strike="noStrike">
                <a:solidFill>
                  <a:srgbClr val="33cc33"/>
                </a:solidFill>
                <a:latin typeface="Times New Roman"/>
              </a:rPr>
              <a:t>Gree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not grammatically correc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7" dur="indefinite" restart="never" nodeType="tmRoot">
          <p:childTnLst>
            <p:seq>
              <p:cTn id="608" dur="indefinite" nodeType="mainSeq">
                <p:childTnLst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Using/Formatting Tex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le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moves the character to the right of the insertion poi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so removes any graphic or text that is highlighted or selec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pace Ba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s a spa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turn/Enter Ke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(Same Key!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s a new 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5" dur="indefinite" restart="never" nodeType="tmRoot">
          <p:childTnLst>
            <p:seq>
              <p:cTn id="646" dur="indefinite" nodeType="mainSeq">
                <p:childTnLst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Using/Formatting Text (cont’d)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Alignment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way the text lines up against the margins.  Most documents have text lined up with the left margi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default is align left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All lines are flush lef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Changing Alignment –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on one of the buttons in the Formatting Toolb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Lef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enter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Justif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rcRect l="36476" t="9568" r="53690" b="86090"/>
          <a:stretch/>
        </p:blipFill>
        <p:spPr>
          <a:xfrm>
            <a:off x="3124080" y="4343400"/>
            <a:ext cx="3353040" cy="93492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1981080" y="4495680"/>
            <a:ext cx="144792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5409720" y="4419720"/>
            <a:ext cx="21337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2286000" y="4952880"/>
            <a:ext cx="1981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H="1" flipV="1">
            <a:off x="6248520" y="4952880"/>
            <a:ext cx="121896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7" dur="indefinite" restart="never" nodeType="tmRoot">
          <p:childTnLst>
            <p:seq>
              <p:cTn id="688" dur="indefinite" nodeType="mainSeq">
                <p:childTnLst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The 4 Types of Alignmen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eft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All text lined up on the left side.  (Right side is uneven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Centered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All text is in the middle.  (Both sides are uneven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Righ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 All text is lined up on the right side.  (Left side is uneven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Justified or Full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Text is lined up on both sides.  (Uneven spacing between words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7" dur="indefinite" restart="never" nodeType="tmRoot">
          <p:childTnLst>
            <p:seq>
              <p:cTn id="768" dur="indefinite" nodeType="mainSeq">
                <p:childTnLst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1" dur="5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2" dur="5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7" dur="500" fill="hold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8" dur="500" fill="hold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Printing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rom the Menu Bar: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, Print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~OR~ use Ctrl-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uble check what you are printing – PowerPoint slides, handouts, charts, graphs, etc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uble check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 are printing – is the correct printer stated?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HS218Lab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O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9" dur="indefinite" restart="never" nodeType="tmRoot">
          <p:childTnLst>
            <p:seq>
              <p:cTn id="800" dur="indefinite" nodeType="mainSeq">
                <p:childTnLst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7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8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3" dur="500" fill="hold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4" dur="500" fill="hold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Page Margin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ite area that is your border on all sides of your document (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tom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ft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gh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change your margi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rom the Menu Bar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File, Page Setup, then change the sizes on the T,B,L,R margi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ver change the Gutter – it is always 0! (zer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8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3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4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8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3" dur="5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4" dur="5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Page Margins (continued)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rcRect l="0" t="7919" r="0" b="7590"/>
          <a:stretch/>
        </p:blipFill>
        <p:spPr>
          <a:xfrm>
            <a:off x="1295280" y="1676520"/>
            <a:ext cx="7315200" cy="463536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1066680" y="2895480"/>
            <a:ext cx="7239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743200" y="1828800"/>
            <a:ext cx="0" cy="472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162920" y="1828800"/>
            <a:ext cx="0" cy="472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Tab Setting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allows you to custom-set a tab stop any place in your document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eat for making lists and organizing 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eft Ta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default) 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text is lined up on the left s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ight Tab –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text is lined up on the right s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enter Tab –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text is lined up in the cen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5" dur="indefinite" restart="never" nodeType="tmRoot">
          <p:childTnLst>
            <p:seq>
              <p:cTn id="866" dur="indefinite" nodeType="mainSeq">
                <p:childTnLst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1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2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7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8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3" dur="5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4" dur="5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9" dur="5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0" dur="5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4" dur="5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3" dur="5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4" dur="5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Word Processing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434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Used to create, modify, and print document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181480" y="2286000"/>
            <a:ext cx="3200400" cy="28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Tab Settings (continued)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o change –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lect the style you want from the upper left corner of document, next to the rul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 spot on the rul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o Remove –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onto the tab setting and drag it down into your docum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rcRect l="0" t="4651" r="0" b="70547"/>
          <a:stretch/>
        </p:blipFill>
        <p:spPr>
          <a:xfrm>
            <a:off x="1066680" y="5105520"/>
            <a:ext cx="7620120" cy="121896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838080" y="5334120"/>
            <a:ext cx="685800" cy="6094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5" dur="indefinite" restart="never" nodeType="tmRoot">
          <p:childTnLst>
            <p:seq>
              <p:cTn id="916" dur="indefinite" nodeType="mainSeq">
                <p:childTnLst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5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6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1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2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Bullet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ow you to enhance a list or set of ideas in a docum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rom the Menu Bar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Format, Bullets and Numbering, then choose style you wa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~OR~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lick on the bullets/numbering button on the formatting toolb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get rid of bullets: place cursor in text, click on bullets button to turn it OFF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3" dur="indefinite" restart="never" nodeType="tmRoot">
          <p:childTnLst>
            <p:seq>
              <p:cTn id="954" dur="indefinite" nodeType="mainSeq">
                <p:childTnLst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9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0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fill="hold">
                      <p:stCondLst>
                        <p:cond delay="indefinite"/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5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6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9" dur="5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0" dur="5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3" dur="5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4" dur="5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9" dur="50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0" dur="50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221304"/>
                </a:solidFill>
                <a:latin typeface="Times New Roman"/>
              </a:rPr>
              <a:t>Task Bar</a:t>
            </a:r>
            <a:endParaRPr b="0" lang="en-US" sz="3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066320" y="12952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ows you what documents you have op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tatus Ba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ows you how many pages you have in your documen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rcRect l="0" t="87690" r="0" b="0"/>
          <a:stretch/>
        </p:blipFill>
        <p:spPr>
          <a:xfrm>
            <a:off x="685800" y="3581280"/>
            <a:ext cx="8229600" cy="78120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2"/>
          <a:srcRect l="0" t="87690" r="72978" b="0"/>
          <a:stretch/>
        </p:blipFill>
        <p:spPr>
          <a:xfrm>
            <a:off x="4572000" y="4800600"/>
            <a:ext cx="4114800" cy="140652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 flipH="1">
            <a:off x="5638680" y="2286000"/>
            <a:ext cx="2743200" cy="1905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2057040" y="3200400"/>
            <a:ext cx="34290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143000" y="4724280"/>
            <a:ext cx="32004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rent Page of Docu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tal Number of P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52680" y="5029200"/>
            <a:ext cx="33530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191120" y="5943600"/>
            <a:ext cx="31240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 flipV="1">
            <a:off x="7086240" y="5714640"/>
            <a:ext cx="2286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1" dur="indefinite" restart="never" nodeType="tmRoot">
          <p:childTnLst>
            <p:seq>
              <p:cTn id="982" dur="indefinite" nodeType="mainSeq">
                <p:childTnLst>
                  <p:par>
                    <p:cTn id="983" fill="hold">
                      <p:stCondLst>
                        <p:cond delay="indefinite"/>
                      </p:stCondLst>
                      <p:childTnLst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3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4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9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0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fill="hold">
                      <p:stCondLst>
                        <p:cond delay="indefinite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5" dur="5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6" dur="5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1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2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fill="hold">
                      <p:stCondLst>
                        <p:cond delay="indefinite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7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8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3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4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9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fill="hold">
                      <p:stCondLst>
                        <p:cond delay="indefinite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7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8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fill="hold">
                      <p:stCondLst>
                        <p:cond delay="indefinite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pArt/Graphic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o Insert ClipArt: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, Picture, ClipAr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use clip gallery or us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lips On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o Insert Graphics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sert, Picture, From F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llow the path to your folder and choose graphic you w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o Format your ClipArt/Graphic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Select picture, Format, Picture, choose Layout Tab, select Square or Tight Wrapp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w you can move it all around your docume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5" dur="indefinite" restart="never" nodeType="tmRoot">
          <p:childTnLst>
            <p:seq>
              <p:cTn id="1056" dur="indefinite" nodeType="mainSeq">
                <p:childTnLst>
                  <p:par>
                    <p:cTn id="1057" fill="hold">
                      <p:stCondLst>
                        <p:cond delay="indefinite"/>
                      </p:stCondLst>
                      <p:childTnLst>
                        <p:par>
                          <p:cTn id="1058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1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7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8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1" dur="5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2" dur="5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7" dur="5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8" dur="5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1" dur="500" fill="hold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2" dur="500" fill="hold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7" dur="500" fill="hold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8" dur="500" fill="hold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1" dur="500" fill="hold"/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2" dur="500" fill="hold"/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WordArt/AutoShape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ring out Drawing Toolbar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View, Toolbars, Draw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on the Blue, slanted ”A”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oose style, type text, select fo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raw your own graphics with AutoShape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on AutoShapes, choose shape, click and drag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ormat: Format, AutoShape, then select fill col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6629400" y="2286000"/>
            <a:ext cx="1685880" cy="7588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Forte"/>
              </a:rPr>
              <a:t>WordAr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Forte"/>
              <a:ea typeface="Forte"/>
            </a:endParaRPr>
          </a:p>
        </p:txBody>
      </p:sp>
      <p:sp>
        <p:nvSpPr>
          <p:cNvPr id="225" name=""/>
          <p:cNvSpPr/>
          <p:nvPr/>
        </p:nvSpPr>
        <p:spPr>
          <a:xfrm>
            <a:off x="7620120" y="2895480"/>
            <a:ext cx="990360" cy="1067040"/>
          </a:xfrm>
          <a:prstGeom prst="sun">
            <a:avLst>
              <a:gd name="adj" fmla="val 25000"/>
            </a:avLst>
          </a:prstGeom>
          <a:gradFill rotWithShape="0">
            <a:gsLst>
              <a:gs pos="0">
                <a:srgbClr val="e1c01b"/>
              </a:gs>
              <a:gs pos="100000">
                <a:srgbClr val="fefde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3" dur="indefinite" restart="never" nodeType="tmRoot">
          <p:childTnLst>
            <p:seq>
              <p:cTn id="1094" dur="indefinite" nodeType="mainSeq">
                <p:childTnLst>
                  <p:par>
                    <p:cTn id="1095" fill="hold">
                      <p:stCondLst>
                        <p:cond delay="indefinite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9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1" fill="hold">
                      <p:stCondLst>
                        <p:cond delay="indefinite"/>
                      </p:stCondLst>
                      <p:childTnLst>
                        <p:par>
                          <p:cTn id="1102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5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7" fill="hold">
                      <p:stCondLst>
                        <p:cond delay="indefinite"/>
                      </p:stCondLst>
                      <p:childTnLst>
                        <p:par>
                          <p:cTn id="1108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1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2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5" dur="5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6" dur="5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7" fill="hold">
                      <p:stCondLst>
                        <p:cond delay="indefinite"/>
                      </p:stCondLst>
                      <p:childTnLst>
                        <p:par>
                          <p:cTn id="1118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1" dur="5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2" dur="5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9" dur="500" fill="hold"/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0" dur="500" fill="hold"/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1" fill="hold">
                      <p:stCondLst>
                        <p:cond delay="indefinite"/>
                      </p:stCondLst>
                      <p:childTnLst>
                        <p:par>
                          <p:cTn id="1132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5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7" fill="hold">
                      <p:stCondLst>
                        <p:cond delay="indefinite"/>
                      </p:stCondLst>
                      <p:childTnLst>
                        <p:par>
                          <p:cTn id="1138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1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2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Basic Term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tle B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ross the top of your window.  Tells you what program you are using (and title of document!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nu B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so across the top of your window.  Contains a set of commands for you to tell the computer what to 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rcRect l="0" t="0" r="52346" b="92947"/>
          <a:stretch/>
        </p:blipFill>
        <p:spPr>
          <a:xfrm>
            <a:off x="1143000" y="5334120"/>
            <a:ext cx="7543800" cy="83808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3048120" y="2057400"/>
            <a:ext cx="1066680" cy="327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3047760" y="3657600"/>
            <a:ext cx="152280" cy="205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Standard Toolbar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ains the buttons you most often use in Microsoft Wor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0" t="5862" r="35937" b="89954"/>
          <a:stretch/>
        </p:blipFill>
        <p:spPr>
          <a:xfrm>
            <a:off x="1066680" y="2819520"/>
            <a:ext cx="7772400" cy="38088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1447920" y="365760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w P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6200" y="3657600"/>
            <a:ext cx="190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 Docu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172200" y="3657600"/>
            <a:ext cx="19051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ease DO NOT Us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 flipV="1">
            <a:off x="1294920" y="31237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 flipV="1">
            <a:off x="1600200" y="3048120"/>
            <a:ext cx="27432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 flipV="1">
            <a:off x="2209320" y="3048120"/>
            <a:ext cx="449604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371600" y="49528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819520" y="495288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ll Che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800600" y="49528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019920" y="495288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447920" y="563868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819520" y="563868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724280" y="56386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72200" y="5638680"/>
            <a:ext cx="205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oom   Show/H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1676520" y="3124080"/>
            <a:ext cx="761760" cy="1905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 flipV="1">
            <a:off x="2971800" y="3124080"/>
            <a:ext cx="380880" cy="1905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 flipV="1">
            <a:off x="3352320" y="3124080"/>
            <a:ext cx="1752840" cy="1905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H="1" flipV="1">
            <a:off x="3657600" y="3124080"/>
            <a:ext cx="2819520" cy="198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1828800" y="3123720"/>
            <a:ext cx="205740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3200400" y="3123720"/>
            <a:ext cx="129528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876560" y="3123720"/>
            <a:ext cx="22860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6705720" y="3123720"/>
            <a:ext cx="114300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523880" y="434340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nt Pre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H="1" flipV="1">
            <a:off x="2742840" y="3124080"/>
            <a:ext cx="22860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7391520" y="3124080"/>
            <a:ext cx="0" cy="289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Formatting Toolb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6197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lps you to FORMAT/enhance your documents. It enhances the appear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9568" r="32814" b="86090"/>
          <a:stretch/>
        </p:blipFill>
        <p:spPr>
          <a:xfrm>
            <a:off x="990720" y="2438280"/>
            <a:ext cx="7848360" cy="38124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1296720" y="327672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505680" y="3276720"/>
            <a:ext cx="134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nt Si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488200" y="3276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o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294560" y="4038480"/>
            <a:ext cx="82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tal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505320" y="4038480"/>
            <a:ext cx="140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nder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562360" y="4038480"/>
            <a:ext cx="160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ign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296000" y="5029200"/>
            <a:ext cx="1468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mbere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ll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581280" y="5029200"/>
            <a:ext cx="104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tu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ll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85680" y="4952880"/>
            <a:ext cx="174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ligh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579132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xt Co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676520" y="2666520"/>
            <a:ext cx="106668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3962520" y="2742840"/>
            <a:ext cx="759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4495680" y="2666520"/>
            <a:ext cx="106704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1981080" y="2666880"/>
            <a:ext cx="281952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4267080" y="2743200"/>
            <a:ext cx="76212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257800" y="2362320"/>
            <a:ext cx="1143000" cy="5331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6019920" y="2971440"/>
            <a:ext cx="45720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2209680" y="2743200"/>
            <a:ext cx="4267440" cy="236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4114800" y="2743200"/>
            <a:ext cx="2666880" cy="236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6400800" y="2743200"/>
            <a:ext cx="1600200" cy="22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6477120" y="2743200"/>
            <a:ext cx="1981080" cy="3124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838800" y="2895480"/>
            <a:ext cx="92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y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1295280" y="274284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964880" y="1189080"/>
            <a:ext cx="547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lease label this on the VERY back page – use the bottom window pic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554160" y="3048120"/>
            <a:ext cx="114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r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6934320" y="2743200"/>
            <a:ext cx="6094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Line Spacing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ows you to change the size of the space between the lin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oose either Single, 1.5, or Dou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26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uble is most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commonly used in reports.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o Format Line Spac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lect Text, th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the Menu Bar choose:  Format, Paragraph</a:t>
            </a:r>
            <a:r>
              <a:rPr b="0" i="1" lang="en-US" sz="2900" spc="-1" strike="noStrike">
                <a:solidFill>
                  <a:srgbClr val="000000"/>
                </a:solidFill>
                <a:latin typeface="Lucida Grande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n the spacing you want from th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ine Spac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ox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Line Spacing (continued)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14040" y="1523880"/>
            <a:ext cx="7924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ingle Spac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– (SS) No blank lines between typed lin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raparound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– (Soft Returns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the computer automatically moves your text to a new l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ways want to do this, unless it shows/tells you to! (DO NOT use return key!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Line Spacing (continued)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320" y="1143000"/>
            <a:ext cx="7620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ard Retur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you hit enter/return and tell the computer to start a new li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see them with the ¶ symbo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ouble Space –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S Return is when you press ENTER twi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 line spacing is one blank line in-between typed l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Quadruple Space –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S Return is when you press ENTER 4 tim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QS Line spac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Line Spacing (continued)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1447920" y="1600200"/>
            <a:ext cx="6553080" cy="491508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2514600" y="4648320"/>
            <a:ext cx="228600" cy="380880"/>
          </a:xfrm>
          <a:custGeom>
            <a:avLst/>
            <a:gdLst>
              <a:gd name="textAreaLeft" fmla="*/ 146160 w 228600"/>
              <a:gd name="textAreaRight" fmla="*/ 228960 w 228600"/>
              <a:gd name="textAreaTop" fmla="*/ 9720 h 380880"/>
              <a:gd name="textAreaBottom" fmla="*/ 371160 h 380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514600" y="502920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3657600"/>
            <a:ext cx="533160" cy="914400"/>
          </a:xfrm>
          <a:custGeom>
            <a:avLst/>
            <a:gdLst>
              <a:gd name="textAreaLeft" fmla="*/ 0 w 533160"/>
              <a:gd name="textAreaRight" fmla="*/ 192600 w 53316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895480" y="3200400"/>
            <a:ext cx="99072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0T23:42:57Z</dcterms:created>
  <dc:creator>Joshua and Lenessa Keehn</dc:creator>
  <dc:description/>
  <dc:language>en-US</dc:language>
  <cp:lastModifiedBy>LDSD</cp:lastModifiedBy>
  <dcterms:modified xsi:type="dcterms:W3CDTF">2010-02-11T15:58:10Z</dcterms:modified>
  <cp:revision>83</cp:revision>
  <dc:subject/>
  <dc:title>PowerPoint Presentation</dc:title>
</cp:coreProperties>
</file>